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1.wmf" ContentType="image/x-wmf"/>
  <Override PartName="/ppt/media/image1.jpeg" ContentType="image/jpeg"/>
  <Override PartName="/ppt/media/image5.png" ContentType="image/png"/>
  <Override PartName="/ppt/media/image19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057A-90A8-4F0E-9627-CF590641C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7D8B-F285-40B6-B1D1-5A2D9928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B3D4-9543-4C7B-98EF-41701E85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777-87AA-42EA-AE8F-AD3954BE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AB67-392E-4B6F-B287-2A0592D6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315-1A13-4EA0-B3EF-617935E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03C5-F319-467C-94CE-6245B925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6E43-4AAA-491C-9645-D31062CA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14CD-9967-4566-A223-08BC34BCE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0E1-D144-45B9-A977-039B8FBD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DDAC-75AE-4337-A270-AFE7905F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BF0-E3EF-40D5-9D94-A8B8AB0E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7A06-04C7-41D6-BAC0-F9BA53AF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519-A6FC-47B0-8509-B241B25D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5B53-9A32-42FC-B1A6-2FFC653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146-FB6E-4D17-8BFD-E87FB7B3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9ECC-3B14-4FB6-A63B-04837469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3B0BC-7996-42B7-991F-3168238D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1A9D-555B-4B54-95FF-7D0EC220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97E8-F903-47CC-AD8F-DFF0CB5E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E4836-044C-4661-9618-CB4B5C5B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9B4C7-9CE4-4528-B71E-B9AEE52E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BF85-253D-4FA4-9C7A-A137A5E0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8D13-FC93-4043-86FD-0A47D3EE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BDC05-FC6C-4B4E-814D-394B8B1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E272C-D234-42FE-AFBF-B04FE7F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EB3FF-8668-47F2-AFD1-2BF82AD6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5E883-3A02-41FB-A580-86B1781A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DB5D5-4D0E-408C-93EF-DA0D0F20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0F30-81F3-4CC1-AB5F-77E78C61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AF20-02D8-45CC-8047-CB3813623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0873-B717-41E4-85A8-BA4238F7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10C6D-F9EE-439C-B776-3D3A72E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7AA-CD0C-4B9C-A1AC-DC9A477B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1C86D-51A1-42E2-9D03-600052BA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636E7-BE26-4CB1-872D-EFD1EA8E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383A-A58A-4A3F-A715-AC163026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EE995-A358-4794-BE6D-83F57464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2D84E-C640-4536-82DE-4D1915BC3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CADCE-7FDD-4A42-B6CD-FBB5BDF9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80F3B-54CF-4BF8-B19F-7112989B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5CE79-D15D-41B9-A7A9-A7E6D3C27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771CF-38C2-4748-BD15-880D5AD15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8D710-65E1-4796-912F-96C000A6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3AF-B0AC-4D2A-994C-967489DB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6AB8-E8D3-486E-B5B0-850282E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2EB7-E0D1-4E25-B5CC-2577A67F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626AD-6B1D-492F-B40B-CC8C5BC6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5747-0824-4EEF-9C70-BBFE805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1CFA8-891D-4003-A482-7CEE152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2726-20FF-444F-AF98-3DCA6DC7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EAB1F-2A73-4B10-A13F-29057C6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8565F-3753-4D6C-B723-78D73881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285B3-C3B6-45E5-8767-C006B375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80D11B-332F-44B8-869B-92B1CE36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99A-7B95-49F0-B797-C96D87D2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F1A51-22A9-4680-8EE2-2AAED83D7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1D612-39DA-4B02-BB97-E1FA6CC4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6BD3E-F050-474A-A146-5071C192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517FE-922D-407D-B745-88601E4C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A0692-901E-43E5-9198-479D3F26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53C43F-1FB6-4CEF-BA59-53199967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B3142-D05E-4DDA-AF0C-D449B847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F01C9-5928-41FA-8E2B-5859F737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34048-11DE-4F2D-94FF-8E0E00B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955906-4164-45E2-8908-D1E401EC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0C5-65D4-4A95-9822-DA01C9D1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C4EE5-5C43-465D-B799-3EB6DCAB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C48CE-ABA8-4FC3-A602-0A5EC76F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B07B8-259B-4A6B-BCFB-6C09817F7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86A18-CC0B-4D80-91B4-9A86EC3A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A5B6-BA38-4398-9F9F-612DF47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CFC3B-BF33-4B48-BCDD-BD13EF35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A0C37-4770-4A13-8B70-CF301D70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82FD1-2976-41FF-A087-581002F2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4A79A-D63B-48DA-B1E2-C5B24B92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CC115-05B9-49D0-A9C5-1E999129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2D4-842D-4666-B860-314FF17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008E0-4175-4789-A0B5-C20E9112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69AD9-7C98-4884-B979-7D46F358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3DFD6-C739-43B2-9B84-AAF4B364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EC7C7-40C2-4085-AD45-B8D9AB98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2EFBC5-824D-4FCA-BA49-15B463AE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52D6-04D5-498C-8FAD-F421D92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835F-8702-4259-A977-C36884263D6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2BB3-D065-4205-A3F0-A41CD58F221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675A-0806-4A23-8E54-F489BCB4493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B1A5-6770-4B7C-9612-25E80FB6D85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8EBA-2688-4895-8079-C726BAF2D5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D024-C99A-48E3-8BFC-86954435E8B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E45B-2DE0-4D9C-9399-8FC53008F61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cellsalive.com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rchives.nbclearn.com/portal/site/k-12/browse?cuecard=40197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ooking at Cell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In your book on page __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mission Electron Microsc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anning Electron Microsco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8298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4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6324480" cy="63244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"/>
          <p:cNvPicPr/>
          <p:nvPr/>
        </p:nvPicPr>
        <p:blipFill>
          <a:blip r:embed="rId3"/>
          <a:stretch/>
        </p:blipFill>
        <p:spPr>
          <a:xfrm>
            <a:off x="-609480" y="1143000"/>
            <a:ext cx="571500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Featur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1" name="Picture 3" descr=""/>
          <p:cNvPicPr/>
          <p:nvPr/>
        </p:nvPicPr>
        <p:blipFill>
          <a:blip r:embed="rId1"/>
          <a:stretch/>
        </p:blipFill>
        <p:spPr>
          <a:xfrm>
            <a:off x="3398760" y="2657520"/>
            <a:ext cx="357192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Theory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2640" y="1523880"/>
            <a:ext cx="75438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ree Pa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Unicode MS"/>
              </a:rPr>
              <a:t>All living things are made of one or more cell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b80a"/>
                </a:solidFill>
                <a:latin typeface="Arial Unicode MS"/>
              </a:rPr>
              <a:t>Cells are the basic units of structure and function in the organism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Arial Unicode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 Unicode MS"/>
              </a:rPr>
              <a:t>All cells arise from existing cells.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Picture 6" descr="MMj03237650000[1]"/>
          <p:cNvPicPr/>
          <p:nvPr/>
        </p:nvPicPr>
        <p:blipFill>
          <a:blip r:embed="rId1"/>
          <a:stretch/>
        </p:blipFill>
        <p:spPr>
          <a:xfrm>
            <a:off x="7086600" y="0"/>
            <a:ext cx="18320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 vs. </a:t>
            </a:r>
            <a:r>
              <a:rPr b="0" lang="en-US" sz="4300" spc="-1" strike="noStrike">
                <a:solidFill>
                  <a:srgbClr val="feb80a"/>
                </a:solidFill>
                <a:latin typeface="Gill Sans MT"/>
              </a:rPr>
              <a:t>EU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66320" y="449532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bserve the three cells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te 3 differences between the ce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nk organelle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761680" cy="22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 &amp; </a:t>
            </a:r>
            <a:r>
              <a:rPr b="0" lang="en-US" sz="4300" spc="-1" strike="noStrike">
                <a:solidFill>
                  <a:srgbClr val="0070c0"/>
                </a:solidFill>
                <a:latin typeface="Gill Sans MT"/>
              </a:rPr>
              <a:t>EU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karyot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Pr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Single Celled Organis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NO true nucle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karyotes have little internal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Gill Sans MT"/>
              </a:rPr>
              <a:t>Eu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karyo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Single celled or Multi-cellular organism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HAVE true nucle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Gill Sans MT"/>
              </a:rPr>
              <a:t>Have ORGANEL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1" name="Picture 5" descr=""/>
          <p:cNvPicPr/>
          <p:nvPr/>
        </p:nvPicPr>
        <p:blipFill>
          <a:blip r:embed="rId1"/>
          <a:stretch/>
        </p:blipFill>
        <p:spPr>
          <a:xfrm>
            <a:off x="1600200" y="3876840"/>
            <a:ext cx="622296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ft S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scribe Similarities and Differences in Light and Electron Microsco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TextBox 3"/>
          <p:cNvSpPr/>
          <p:nvPr/>
        </p:nvSpPr>
        <p:spPr>
          <a:xfrm>
            <a:off x="4495680" y="3276720"/>
            <a:ext cx="32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5" descr=""/>
          <p:cNvPicPr/>
          <p:nvPr/>
        </p:nvPicPr>
        <p:blipFill>
          <a:blip r:embed="rId1"/>
          <a:stretch/>
        </p:blipFill>
        <p:spPr>
          <a:xfrm>
            <a:off x="5305320" y="0"/>
            <a:ext cx="3838680" cy="292428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Membranes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encloses the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ell and holds in the CYTOPLASM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membrane is a PHSOPHOLIPID BI-Laye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cell membrane regulates what enters the cel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 2/2/201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ne day you found out that there was a great need for shoes in the world. You decided you wanted to open a shoe factory. What would need to do this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 DESCRIPTIVE! You need a list of at least 8 component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What is the Metric System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79600" y="2286000"/>
            <a:ext cx="3810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 Page ____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66680" y="121932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Develop an analogy for an ANIMAL ce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 must include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ell Membra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cle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ucleolu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Mitochondri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lgi Body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ibosom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doplasmic Reticulum (Smooth &amp; Rough can be 1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ytoplas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ysosom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90000"/>
              </a:lnSpc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2" name="Picture 2" descr="C:\Program Files\Microsoft Office\MEDIA\CAGCAT10\j0285360.wmf"/>
          <p:cNvPicPr/>
          <p:nvPr/>
        </p:nvPicPr>
        <p:blipFill>
          <a:blip r:embed="rId1"/>
          <a:stretch/>
        </p:blipFill>
        <p:spPr>
          <a:xfrm>
            <a:off x="7238880" y="2057400"/>
            <a:ext cx="14749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ell Organell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cellsalive.com/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2"/>
          <a:stretch/>
        </p:blipFill>
        <p:spPr>
          <a:xfrm>
            <a:off x="4424400" y="0"/>
            <a:ext cx="4719600" cy="274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0" y="1600200"/>
            <a:ext cx="4672080" cy="3124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4"/>
          <a:stretch/>
        </p:blipFill>
        <p:spPr>
          <a:xfrm>
            <a:off x="4267080" y="3352680"/>
            <a:ext cx="41198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ric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xamine the SI units in Table 1(page 50). How many meters are there in a kilometer? How many centimeters are in a meter?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4" name="Picture 4" descr="C:\Documents and Settings\anthony.cappello\Local Settings\Temporary Internet Files\Content.IE5\OV57I635\MCj04419020000[1].wmf"/>
          <p:cNvPicPr/>
          <p:nvPr/>
        </p:nvPicPr>
        <p:blipFill>
          <a:blip r:embed="rId1"/>
          <a:stretch/>
        </p:blipFill>
        <p:spPr>
          <a:xfrm>
            <a:off x="5943600" y="4267080"/>
            <a:ext cx="15210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Opene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at is ONE major benefit to the metric system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does the metric system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How have microscopes benefitted you??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etric System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e Metric System is the International System of measure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is based on powers of 10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Why might it be important to have a universal system of measurement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cientist need to have a “common ground” for performing experiments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" name="Picture 4" descr="MCj03516070000[1]"/>
          <p:cNvPicPr/>
          <p:nvPr/>
        </p:nvPicPr>
        <p:blipFill>
          <a:blip r:embed="rId1"/>
          <a:stretch/>
        </p:blipFill>
        <p:spPr>
          <a:xfrm>
            <a:off x="7086600" y="2209680"/>
            <a:ext cx="17859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Microscope Vide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archives.nbclearn.com/portal/site/k-12/browse?cuecard=40197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Microscopes</a:t>
            </a:r>
            <a:br>
              <a:rPr sz="3600"/>
            </a:b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Light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 Electron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1582560" y="1951200"/>
            <a:ext cx="336240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5524560" y="2212920"/>
            <a:ext cx="3162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ight Microscop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1673280" y="2251080"/>
            <a:ext cx="3181320" cy="32097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ight microscopes have 2 lenses and a source of light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ive Lens &amp; Ocular L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lens has its own MAGNIFIC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ultiply each lens’s magnification to get the total magnif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x times 40x = 400x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Electron Microscop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839960" y="2303640"/>
            <a:ext cx="2847960" cy="31050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ectrons are shot at the object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ectrons then bounce off, or pass through the object to create an image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magnify up to 200,000 time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50:17Z</dcterms:created>
  <dc:creator>CUSD300</dc:creator>
  <dc:description/>
  <dc:language>en-US</dc:language>
  <cp:lastModifiedBy>CUSD300</cp:lastModifiedBy>
  <dcterms:modified xsi:type="dcterms:W3CDTF">2012-09-26T15:43:57Z</dcterms:modified>
  <cp:revision>37</cp:revision>
  <dc:subject/>
  <dc:title>Looking at Cells</dc:title>
</cp:coreProperties>
</file>